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72B-22C7-4672-83A9-D87A034D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CE8-BF53-4A3B-8866-39F029D2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973-0F05-4A99-B356-1863C9C5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E59-0A46-4113-8DDF-8D5CC629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D96-3416-41C7-BE71-72B232EB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3EB-3229-403D-9A8B-1296BCFE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2A2-F941-4FA8-8B46-3DE2678F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E04-D4EB-47BA-ABDC-F5387003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AEE-965F-41BD-9D4E-E5A1C04F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E7A-B9CD-47AE-9891-36C88352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0FB-7470-4FAF-8A4B-1D288FDB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CC0-657D-4EFF-9993-0E42C4ED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29AD-D5F0-40AC-A111-C8FD22957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umber the St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ois Low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BB3-5D94-491F-82D1-7661786B1F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wish Faith - Backgro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ish fa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 in one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 God created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Ten Command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y book  -  Torah (Old Testa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Holy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124-A178-49A5-8196-C1DFE67FD2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wish Fa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h Has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ish New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s in Sept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me to reflect on your actions in the previous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far is play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’s h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o Spiritual Reawa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225-DE19-45FF-AF7E-2F418E5A03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803160"/>
            <a:ext cx="7772400" cy="5249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96560" y="659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6ED-6C62-45F0-9E83-11A9F9CCE7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5840" y="609480"/>
            <a:ext cx="73123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65E-6AA7-4BF7-8D82-466BE50511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wish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d prejudice and persecu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ws banned from holy city of Jerus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acred Jews in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 (149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ws driven from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537-39F2-4B11-AA80-028D95CC0E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wish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often criticized Jewish belief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eople viewed Jews 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fferent race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rmany, Adolf Hitler used these myths to create hatred toward the Jew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umanization and hatred lead to killing of the Jews (holocaus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E77-A638-42E5-9587-0E31AF3302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wish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ght to control all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kill all Jews i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ded many countries including Den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281-6CEE-42CE-A38B-7132218767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5:59:17Z</dcterms:created>
  <dc:creator>Archer Anita</dc:creator>
  <dc:description/>
  <dc:language>en-US</dc:language>
  <cp:lastModifiedBy>Archer Anita</cp:lastModifiedBy>
  <cp:lastPrinted>2011-05-22T18:14:01Z</cp:lastPrinted>
  <dcterms:modified xsi:type="dcterms:W3CDTF">2011-05-22T18:21:20Z</dcterms:modified>
  <cp:revision>8</cp:revision>
  <dc:subject/>
  <dc:title>Number the Stars</dc:title>
</cp:coreProperties>
</file>